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A43F-3658-4A1D-BCB9-F3A134A8B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E60B-87E9-45B7-817A-B41FD1A893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1117440" y="878040"/>
            <a:ext cx="4618080" cy="31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060200" y="4351320"/>
            <a:ext cx="47307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753A-5EDF-40BF-B367-C1E1E7599F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34E8-A7F0-4297-99C2-9D1394CAAD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72A-7CEB-47D4-AE9B-91934C66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CF0-5103-4B43-8692-2C0C0937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A42-74C3-475E-BB6C-FBE6F834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B4F-8086-41AD-9B8C-433BAAC8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C9EF-E0EB-426D-9483-92663DAB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E534-DE6D-491D-93E1-E8BD7455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C35C-0CCE-4B1C-8B85-B476560E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D9DB-8810-48B1-90BA-DA332E64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328E-384C-4A89-B836-80A05406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B726-7D71-4DD0-B481-91C361FA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8958-CC1C-4EF2-B666-2B5829F0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B8B-4E73-4D1B-BAF5-591B13A4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5031-E34D-4559-859E-242629DE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839C-B591-4841-A035-C47424DC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D462-0682-4DF0-B095-41496E6F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C3B0-3CC9-4003-8D51-64CDB9D4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D858-35BB-4C38-AC0F-980C6FEB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EDF-215E-4E43-988E-EFFD24A2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29E-89F4-4D59-9D68-0B811218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9A8-D446-4BF5-A1D5-36500F85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B32-058E-4A42-A195-2991B63E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041-70D9-4B07-9FC8-52DB3BB6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EB9-16CA-4378-B3ED-97E05B20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B2F-8A67-4E7C-8522-CD29AA8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8586-33C8-4327-BA46-92011D781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9C87-0856-4F99-A565-4539FC7CF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Мостови 2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66"/>
                </a:solidFill>
                <a:latin typeface="Arial"/>
              </a:rPr>
              <a:t>Подела мосто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Планирање мостова великог распон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исина тела моста по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ва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рстину и отпорност тела много ви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е од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рине. По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ње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рстине иде са геометријском прогресијом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, нп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р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.-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ко је висина моста 5мм код исте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рине и ду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не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рстина моста је 25.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ко се висина моста по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 на 10мм при истим условима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рстина моста се по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ва на 100.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исина моста треба да буде најмање једнака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рини моста или да је 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 (х=а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ли х&gt;а ) у супротном треба да се смањи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рина или хиру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ким путем да се нивели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е алвеоларни гребен да би се обезбедио простор за 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у висину моста.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ко нема довољне висине израда моста је контраиндикова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ада је висина мала а треба да се уради хигијенски мост који треба да одстоји од гингиве 2-3мм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а моста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бити недовољна и до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до деформације тела моста и до повл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а нос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 према безубом просто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Довољно велика висина омог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 да с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и могу да фасетирају са вестибуларне и оклузалне стране.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На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у моста ут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и распон изм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 зуба нос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 тј. д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а тела моста која у најбољем сл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ју не треба да је 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 од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2 изгубљена зуба у б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ној регији или у повољним условима и с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редукцијом оклузалне пов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е за 1/3 да надом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а 3 изгубљена зу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Дебљина тела моста 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в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у моста али так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в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утр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к племенитог метала док фасетирање смањује дебљину тела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а тела моста зависи од тврд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и отпорности матер</a:t>
            </a:r>
            <a:r>
              <a:rPr b="1" lang="sr-RS" sz="32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јала. Од златних легура за фиксне протезе најотпорнија је 20-каратна легура платинског злата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Легуре од 22-24 карата с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мекане. Легуре на бази паладијум-среб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одговарају легурама злата из III и IV групе тврд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по Бринелу и потпуно одговарају за израду тела мо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391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егуре за метал-керамику су довољно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тпорн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могу се изр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вати са смањеним димензијама и оклузалн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им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фасетир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њем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.ГИНГИВАЛНИ ДЕО ТЕЛА МО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днос тела моста према ткиву алвеоларног гребена мозе би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линеаран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хигијенски-тангенцијалан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повр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ински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или полуседласт тј. полу-хигијен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седласт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односно нехигијенск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Гингивални део моста је зн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јан за хигијену уста и зуба,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природни изглед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стетику и фон</a:t>
            </a:r>
            <a:r>
              <a:rPr b="1" lang="sr-RS" sz="2800" spc="-1" strike="noStrike">
                <a:solidFill>
                  <a:srgbClr val="ffff66"/>
                </a:solidFill>
                <a:latin typeface="Arial"/>
              </a:rPr>
              <a:t>ацију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Хигијена фиксних конструкција се од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 само у устима пацијента због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га тело моста треба да има такав облик који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омог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ти да се хигијена овог дела моста од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 физиол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сам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ем (уз пом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језика,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сана,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браза) и механ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им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ем уз пом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ткице за зубе.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 друге стран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и тела моста треба да буду оформљени тако да се постигне опт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и утисак да се ради о природним зубима.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ва два захтева за гингивални део тела моста могу т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о да се усагласе у свим деловима горње и доње вилице.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Постоје невидљиви,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лабо видљиви и добро видљиви предели па према томе лог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но је да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у од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ним местима бити 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дс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упања од горе од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них захт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оректно 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ње хигијенских захтева пост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се удаљавањем тела моста од алвеоларног гребена. То за природан естетски изглед и фонетику у 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и сл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јева није п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хватљи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 пределу молара доње вилице гингивални делови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а моста се налазе у подр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ју које није видљиво. Ту су индицирани мостови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је је тело удаљено од гингиве. То растојање тела моста од гингиве м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бити 1-3мм. Такви мостови су познати ка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хигијенски мостови. Али није исто да ли је тело моста на растојању од само 1мм или од 2-3мм од слузок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алвеоларног гребе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Хигијенски мостови са малим растојањем од 1мм имају високе 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ланове моста, 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то пове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ава њихову 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врстину и могу се букално фасетирати. Иако је растојање тела моста од алвеоларног гребена мало јо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 увек је омогу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ено добро одр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авање хигијене. Хигијенски мостови са растојањем од слузоко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е 2-3мм олак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авају спрово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ење хигијене. Фасетирање букалне стране није могу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е али није ни зна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ајно обзиром да се зуби у овом делу не виде. Ме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утим пацијенти нису психи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ки задовољни, јавља се нов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 проблем-размак изме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у моста и слузоко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е смета   пацијентима, такви мостови се не прихватају са задовољством и изазивају психи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ки неми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Израда хигијенских мостова са растојањем 2-3м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д слузоко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е је данас нап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ена и препор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у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се да размак изме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у тела моста и слузоко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е бу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мали (око 1мм) 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о се обезбе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ује облагањ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модела тела моста алуминијумском фолијом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хигијенско тело мо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руга мог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ост је да тело моста буде у благ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одиру, без притиска на гингиву. То 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ангенцијални додир-линеарни додир. Линеар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одир није строго геометријски ве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је гингивал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ео моста лако заобљен са 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ирином од 1-2м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Попре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и пресек тела мо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е имати изд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ен обл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или облик срца, 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о зависи од висине моста. 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мог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ава да на оралној страни 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ланови мо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имају прибл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о морфоло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и природан обл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оји не смета језику и он се лако адаптира на тај облик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682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Пацијенти лако прихватају овај облик а он потпом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хигијену и з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титу слузок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физиол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ким кл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њем хране при мастикацији. Тако је избегнут “мртви угао” са лингвалне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Линеарни додир на алвеоларном гребену се усагл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ва са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ином гребена. Уском алвеоларном гребену одговара узан гингивални део тела моста и обрнуто. Комбинација узаног гребена и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оког тела моста или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оког гребена и узаног тела ствара степенике и “мртве просторе” који от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вају од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вање хигије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ада се тело хигијенског моста фасетира,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и се сепарирају са вестибуларне и оралне стране, то мостну конструкцију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и пријатном за пацијента. Сепарација није дубока да се не добијају мртви углови и да не ослаби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а моста.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и су благо конвексни и не дозвољавају да храна код мастикације 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је гингиву. Благи линеарни додир тела са гингивом и како се тело моста односи према слузок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зависи од материјала од кога се изр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је мостна конструкција. Несме деловати хемијски, токсикол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и или алергијски на гингиву. Најиндиферентнији према гингиви је глазирани порцелан, затим високо полирани метал а најмање акрил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Морфологиј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-рељеф оклузалне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е се моделира у складу са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морфологијом оклузалних повр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а преосталих зуб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. То говори да све протетске надокнаде треба да се раде на моделима целе вилице, са контролом оклузије и артикулације тј. у артикулатору. То омогу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ва да се ј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на моделу направи реоклузија и реартикулација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Тако се избегавају високе к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це и косе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е на њ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У слабо видљивим подручјима доњих премолара и горњих других молара а по некад и горњих првих молара чланови тела моста се моделирају са тангенцијалним додиром у односу на слузокожу да би се постигао природан изглед и добра хигиј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Тело моста иде до ивице алвеоларног гребена или нешто вестибуларније а додир са слузокожом је сасвим благ и без притиска. Чланови моста гингивално се више сепарирају као што су интерденталне папиле код природних зуба. Ове сепарације су потребне због естетике и хигијене јер омогућују слободну циркулацију пљувачке и механичко чишћење зуба и слузокож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У добро видљивим подручјима фронталног дела однос тела моста према слузокожи алвеоларног гребена мора бити широк површински додир полуседласт или седласт али без компресије. Оваква конструкција одговара естетским и фонетским захтевима. Зуби имају природан изглед, облик и величину. Мора са одбацити питање радирања модела да би се добио утисак да зуби полазе из алвеоле. Овакво произвољно радирање је контраиндиковано јер доводи до импресије, запаљења па чак и некроз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гинги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Широко површинско налегање без притиска у видљивим подручјима је неминовно и иде на рачун хигијене те се од пацијента захтева безпрекора хигијена усата и зу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Код свих мостних конструкција без обзира на део вилице посебно треба обратити пажњу на простор између тела моста и спојнице-простор за интерденталну папилу у случају израде мостова са већим бројем круна повезаних у блок. У сваком од ових случајева увек је потребно да се обезбеди простор од најмање 1,5мм. Папила ни у ком случају несме да буде притиснута или нагњечена јер то оштећује пародонцијум и смањује дужину ношења протетске конструкциј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748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Од </a:t>
            </a:r>
            <a:r>
              <a:rPr b="1" lang="sr-Latn-CS" sz="3200" spc="-1" strike="noStrike">
                <a:solidFill>
                  <a:srgbClr val="99cc00"/>
                </a:solidFill>
                <a:latin typeface="Arial"/>
              </a:rPr>
              <a:t>облика повезивања тела моста са котвом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зависи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могућност самочишћења  тј. одржавање хигијен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траума пародонта носача изазвана недовољним простором што води хроничном запаљењ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врстина и могућност за деформацију тела због присуства високе концентрације напрезањ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Величина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висин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повезивања треба износити најмање 3м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99cc00"/>
                </a:solidFill>
                <a:latin typeface="Arial"/>
              </a:rPr>
              <a:t>Улога моста</a:t>
            </a:r>
            <a:r>
              <a:rPr b="1" lang="en-US" sz="3000" spc="-1" strike="noStrike">
                <a:solidFill>
                  <a:srgbClr val="99cc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1. Затварање дефеката и успостављање континуитета зубног низ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2. Спречавање инклинације зуба који ограничавају дефек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3. Постизање контактних површина између котви и преосталих зуба што чува интерденталне папиле и омогућава прерасподелу притиска на преостале зубе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4. Спречавање елонгације антагониста 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Годонов феномен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5. Заштита алвеоларног гребена на месту дефекта и пародонцијума зуба носач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6. Успостављање оклузије, артикулације, мастикације, фонетике и естетик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cc00"/>
                </a:solidFill>
                <a:latin typeface="Arial"/>
              </a:rPr>
              <a:t>Услови за израду моста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гран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н дефект зубног низа (недостатак 2 суседна зуба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Јаки,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, витални или коректно ендододонтски санирани зуби нос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Да није велики распон-недостатак 2 б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на зуб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клинација стубних зуба да није велика-24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Растојање изм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 антагониста и алвеоларног гребена у оклузији да је довољно велик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анирана уста , зуби и од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ње добре хигије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99ff66"/>
                </a:solidFill>
                <a:latin typeface="Arial"/>
              </a:rPr>
              <a:t>Предности мостних констру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Осмишљено планиран и ваљано израђен мост обезбеђује терапију и превенцију оралних ткива какве се не могу постићи ни са једном другом врстом надокнаде. Поред тога, и већина пацијената се радије опредељује за мост из следећих разлог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1. То је физиолошки најповољнија надокнада због денталног преношења оптерећења. Посредством проприоцептора у периодонцијуму и одговарајућих рефлексних путева усмерава се жвачни процес па је жвачни учинак моста сличан звачном учинку природних зуб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2. Мост не ремети фонацију јер је надокнада ограничена на простор који су испуњавали природни зуби те су услови за фонацију слични условима са природним зубим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3. Сачуван је осећај за укус и опип хране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4. Адаптација пацијента на надокнаду је брз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5. Постиже се заштита зуба носача од каријес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6. Естетски ефекти су изванредни, нарочито када се као градивни материјал користи металокерамика и керам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110120" y="1447920"/>
            <a:ext cx="373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79280" y="4968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ff66"/>
                </a:solidFill>
                <a:latin typeface="Arial"/>
              </a:rPr>
              <a:t>Мостови имају и недостатке</a:t>
            </a:r>
            <a:r>
              <a:rPr b="1" lang="en-US" sz="2800" spc="-1" strike="noStrike">
                <a:solidFill>
                  <a:srgbClr val="99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1. Израда моста захтева велико брушење здравог зубног тки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2. Услови за одржавање оралне хигијене су после цементирања моста неповољнији у поређењу са условима који постоје у интактном зубном низ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3. Финансијски оптерећују пацијента, нарочито када се као градивни материја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користе легуре племенитих мет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Наведене недостатке треба схватити условно. Када год је могуће, треба се определити за израду мо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Фиксна протетика је наука и уметност поновног успостављања физиолошког облика зуба који је нарушен губитком зубних ткива и поремећајима у развоју зубних структу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Фиксна протетика обухвата надокнаду једног или више изгубљених зуба мостом до реконструкције у целини једног или оба зубна низа.</a:t>
            </a:r>
            <a:br>
              <a:rPr sz="2800"/>
            </a:b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Вештачком фиксном надокнадом успоставља се поново анатомски облик оштећеног коронарног дела зуба и обезбеђује његово учешће у оралним функцијама.</a:t>
            </a:r>
            <a:br>
              <a:rPr sz="2800"/>
            </a:b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Фиксне надокнаде се деле на привремене и стал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b7"/>
                </a:solidFill>
                <a:latin typeface="Arial"/>
              </a:rPr>
              <a:t>ПРИВРЕМЕНЕ ФИКСНЕ НАДОКНА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У привремене фиксне надокнаде спадају заштитне крунице и мостови. Привремене крунице се најчешће израђују од вештачке смоле и штите састругане зубе и околна ткива до цементирања сталне фиксне надокнаде. Скинут стари мост, са одређеном корекцијом, такође се може користити као привремени мо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Привремени мост је надокнада за изгубљени зуб (или више зуба) који се најчешће израђује од вештачке смоле. У те сврхе користи се и адаптиран, скинути стари мо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Привремене фиксне надокнаде могу се израђивати директном или индиректном методом. Прва метода обухвата израду привремених надокнада у устима, а друга укључује израду ових надокнада у лабораторији на одговарајућем моде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име се елимин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етно дејство хоризонталних и вертикалних сила и преопте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е зуба.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роке и равне мастикаторне пов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е тела моста преопте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ју пародонцијум нос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, имај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у обзир да се храна само гњ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ме се по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 број затварања зуба и време потребно да се храна самеље и припреми за гутање. Ефекат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акања у тим сл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јевима је минималан а замор мускулатуре вел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зимај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у обзир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у моста, редукција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рине тела моста не треба да је претерана и из тог разлога, јер се са редукцијом смањуј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а тела моста и м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д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до савијања или ломљења тела мо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ffff66"/>
                </a:solidFill>
                <a:latin typeface="Arial"/>
              </a:rPr>
              <a:t>СТАЛНЕ ФИКСНЕ НАДОКНАД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ccff33"/>
                </a:solidFill>
                <a:latin typeface="Arial"/>
              </a:rPr>
              <a:t>У сталне фиксне надокнаде спадају инлеји, ливене надоградње, крунице и мостов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ccff33"/>
                </a:solidFill>
                <a:latin typeface="Arial"/>
              </a:rPr>
              <a:t>Инлеји се ретко користе као котве за мост јер не обезбеђују довољну ретенцију. У одређеним случајевима могу се користити као слабија котва и везати за тело моста по принципу везних елемена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ccff33"/>
                </a:solidFill>
                <a:latin typeface="Arial"/>
              </a:rPr>
              <a:t>Ливена надоградња надокнађује изгубљени део крунице зуба и помоћу кочића фиксира се у канал корена. Са преосталим делом зубне супстанце има облик саструганог зуба за вештачку круницу. Израђује се у једном комаду за једнокорене зубе, а за вишекорене, када није могуће успоставити параиелитет између испрепарираних канала, из два дел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16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600" spc="-1" strike="noStrike">
                <a:solidFill>
                  <a:srgbClr val="ff9900"/>
                </a:solidFill>
                <a:latin typeface="Arial"/>
              </a:rPr>
              <a:t>ПОДЕЛА МОСТ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Arial"/>
              </a:rPr>
              <a:t>Подела мостова се може заснивати на више критеријума. Основне поделе су следећ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51"/>
              </a:spcBef>
              <a:buClr>
                <a:srgbClr val="99ff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Arial"/>
              </a:rPr>
              <a:t>топографска подел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51"/>
              </a:spcBef>
              <a:buClr>
                <a:srgbClr val="99ff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Arial"/>
              </a:rPr>
              <a:t>подела мостова на основу типа спојниц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51"/>
              </a:spcBef>
              <a:buClr>
                <a:srgbClr val="99ff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Arial"/>
              </a:rPr>
              <a:t>подела мостова на основу материјала од кога су израђени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51"/>
              </a:spcBef>
              <a:buClr>
                <a:srgbClr val="99ff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Arial"/>
              </a:rPr>
              <a:t>подела мостова на основу броја недостајућих зуба и положаја безубих простора у зубном луку.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Arial"/>
              </a:rPr>
              <a:t>Топографска подела 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предње или мостове интерканине региј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бочне или мостове трансканине региј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емициркуларне мостове који обухватају читаву дужину зубног лука, укључују већи број носача и имају 10 до 14 члано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2280" y="115920"/>
            <a:ext cx="88394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Arial"/>
              </a:rPr>
              <a:t>Подела мостова на основу типа спојниц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Arial"/>
              </a:rPr>
              <a:t>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фиксне, у којих су сви спојеви ливени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полуфиксне, у којих је један од спојева остварен посредством атечмена или зглобне ве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C:\Users\Jelena Todic\Downloads\images-1(1).jpeg"/>
          <p:cNvPicPr/>
          <p:nvPr/>
        </p:nvPicPr>
        <p:blipFill>
          <a:blip r:embed="rId1"/>
          <a:stretch/>
        </p:blipFill>
        <p:spPr>
          <a:xfrm>
            <a:off x="0" y="3429000"/>
            <a:ext cx="3348000" cy="2508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Jelena Todic\Downloads\images.jpeg"/>
          <p:cNvPicPr/>
          <p:nvPr/>
        </p:nvPicPr>
        <p:blipFill>
          <a:blip r:embed="rId2"/>
          <a:stretch/>
        </p:blipFill>
        <p:spPr>
          <a:xfrm>
            <a:off x="2916360" y="4797360"/>
            <a:ext cx="338436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Users\Jelena Todic\Downloads\images-4.jpeg"/>
          <p:cNvPicPr/>
          <p:nvPr/>
        </p:nvPicPr>
        <p:blipFill>
          <a:blip r:embed="rId3"/>
          <a:stretch/>
        </p:blipFill>
        <p:spPr>
          <a:xfrm>
            <a:off x="5835600" y="3416400"/>
            <a:ext cx="33084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9900"/>
                </a:solidFill>
                <a:latin typeface="Arial"/>
              </a:rPr>
              <a:t>Подела мостова на основу броја недостајућих зуба и положаја безубих простора у зубном луку 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Arial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једноставн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Arial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сложе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У неких случајева број недостајућих зуба и распоред безубих простора су такви да је могућно релативно једноставним конструкционим решењем обезбедити санацију крезубости мостом. У других се ово може постићи само сложеном конструкцијом, која подразумева укључивање секундарних носача и зглобних ве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700" spc="-1" strike="noStrike">
                <a:solidFill>
                  <a:srgbClr val="ff9900"/>
                </a:solidFill>
                <a:latin typeface="Arial"/>
              </a:rPr>
              <a:t>ЗАХТЕВИ КОЈЕ МОРА ИСПУЊАВАТИ ДЕНТАЛНИ МОС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Конструкција денталног моста треба истовремено да удовољ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а) законима механике који се користе у инжењерској пракс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б) законима биомеха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ц) хигијенским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д) естетским захтев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Механика је наука о законима равнотеже и кретања тела. Дели се на: </a:t>
            </a:r>
            <a:r>
              <a:rPr b="1" lang="sr-CS" sz="2400" spc="-1" strike="noStrike">
                <a:solidFill>
                  <a:srgbClr val="ff9900"/>
                </a:solidFill>
                <a:latin typeface="Arial"/>
              </a:rPr>
              <a:t>статику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, науку о равнотежи тела у мировању, </a:t>
            </a:r>
            <a:r>
              <a:rPr b="1" lang="sr-CS" sz="2400" spc="-1" strike="noStrike">
                <a:solidFill>
                  <a:srgbClr val="ff9900"/>
                </a:solidFill>
                <a:latin typeface="Arial"/>
              </a:rPr>
              <a:t>кинематику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, учење о кретању у чисто геометријском смислу и </a:t>
            </a:r>
            <a:r>
              <a:rPr b="1" lang="sr-CS" sz="2400" spc="-1" strike="noStrike">
                <a:solidFill>
                  <a:srgbClr val="ff9900"/>
                </a:solidFill>
                <a:latin typeface="Arial"/>
              </a:rPr>
              <a:t>динамику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, учење о кретању под утицајем сила. За фикснопротетску стоматолошку праксу најзначајнији су закони ста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9900"/>
                </a:solidFill>
                <a:latin typeface="Arial"/>
              </a:rPr>
              <a:t>СТАТИКА МО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Три су правила статике значајна за конструкцију мо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5050"/>
                </a:solidFill>
                <a:latin typeface="Arial"/>
              </a:rPr>
              <a:t>МОСТ МОРА БИТИ КРУТА КОНСТРУКЦИЈА КАКО СЕ НЕБ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5050"/>
                </a:solidFill>
                <a:latin typeface="Arial"/>
              </a:rPr>
              <a:t> САВИЈАО ПОД ДЕЈСТВОМ ОКЛУЗАЛНИХ СИЛА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У механичком смислу мост се може упоредити са гредом подупртом или ослоњеном на два краја. Карактеристика греде је да се под оптерећењем сав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Untitled-24"/>
          <p:cNvPicPr/>
          <p:nvPr/>
        </p:nvPicPr>
        <p:blipFill>
          <a:blip r:embed="rId1"/>
          <a:stretch/>
        </p:blipFill>
        <p:spPr>
          <a:xfrm>
            <a:off x="2050920" y="3860640"/>
            <a:ext cx="4608720" cy="2786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Отпорност греде на савијање је највећа сила коју ова може поднети без савијања. Она зависи 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пецифичне отпорности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авијање материјала 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кога је греда израђ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99ff66"/>
                </a:solidFill>
                <a:latin typeface="Arial"/>
              </a:rPr>
              <a:t>2.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дужине греде у обрнутој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размер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99ff66"/>
                </a:solidFill>
                <a:latin typeface="Arial"/>
              </a:rPr>
              <a:t>3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. висине греде 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директној сразме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Untitled-22"/>
          <p:cNvPicPr/>
          <p:nvPr/>
        </p:nvPicPr>
        <p:blipFill>
          <a:blip r:embed="rId1"/>
          <a:stretch/>
        </p:blipFill>
        <p:spPr>
          <a:xfrm>
            <a:off x="6477120" y="1143000"/>
            <a:ext cx="2666880" cy="302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Untitled-23"/>
          <p:cNvPicPr/>
          <p:nvPr/>
        </p:nvPicPr>
        <p:blipFill>
          <a:blip r:embed="rId2"/>
          <a:stretch/>
        </p:blipFill>
        <p:spPr>
          <a:xfrm>
            <a:off x="6335640" y="4508640"/>
            <a:ext cx="2808360" cy="206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6104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99ff66"/>
                </a:solidFill>
                <a:latin typeface="Arial"/>
              </a:rPr>
              <a:t>Отпорност денталног моста на савијање, према томе, зависи од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) материјала од кога је мост израђен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б) дужине или распона моста, односно броја недостајућих зуба које мост надокнађуј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ц) оклузогингивалне висине мо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736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Мост малог распона, мост од три члана на пример, мање ће се савијати од моста већег распона, на пример мост од четири члана ако су сви остали услови и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Мост са већом оклузогингивалном висином мање ће се савијати од моста чија је оклузогингивална висина мала када су сви остали услови и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Будући да су распон, односно дужина и гингивалнооклузална висина моста константне, специфичне за сваки поједини случај, правилним избором градивног материјала треба обезбедити потребну отпорност моста на савијањ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На то ут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-ду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а тела моста (размак изм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 нос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-висина тела моста-растојање изм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 алвеоларног   гребена и антагониста у затвореним уст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 колико је ова висина 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 и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ина моста м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бити 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 и обрнуто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гао који заклапа орална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а тела моста са хоризонталом у горњој вилици не треба бити мањи од 45º обзиром да то обезб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је довољно сам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ње простора испод мо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Мостови малог распона (један до два међучлана) могу се израђивати од легура злата тип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III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. Међутим, за мостове великог распона (три међучлана) или мостове великог распона на кратким носачима треба користити легуре злата тип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IV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. Уколико мост није довољно ригидан, он се под оптерећењем у устима савија, због чега, временом, могу настати: а) трајне деформације моста, б) пуцање моста, ц) одвајање и испадање фасета, д) одвајање рубова котви од зуба носача и е) расцементирање надокнаде. Тело моста које се савија делује на носаче као полуга која има тенденцију да их нагне или ротира, што узрокује прогресивну деструкцију њиховог потпорног апарата и расклаћењ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Untitled-26"/>
          <p:cNvPicPr/>
          <p:nvPr/>
        </p:nvPicPr>
        <p:blipFill>
          <a:blip r:embed="rId1"/>
          <a:stretch/>
        </p:blipFill>
        <p:spPr>
          <a:xfrm>
            <a:off x="3886200" y="4191120"/>
            <a:ext cx="388620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9900"/>
                </a:solidFill>
                <a:latin typeface="Arial"/>
              </a:rPr>
              <a:t>ТЕЛО МОСТА ТРЕБА ДА ЈЕ УМЕТНУТО ИЗМЕЂУ НОСАЧА, ОДНОСНО ИЗМЕЂУ КОТ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Такозвани висећи мост или апендикс у кога тело моста није уметнуто већ је једнострано везано за зуб носач није статички исправан. Он се понаша као полуга која под дејством вертикалних сила нагиње зуб носач, а под дејством хоризонталних - ротира га око аксијалне осов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Untitled-25"/>
          <p:cNvPicPr/>
          <p:nvPr/>
        </p:nvPicPr>
        <p:blipFill>
          <a:blip r:embed="rId1"/>
          <a:stretch/>
        </p:blipFill>
        <p:spPr>
          <a:xfrm>
            <a:off x="2286000" y="4191120"/>
            <a:ext cx="457200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Arial"/>
              </a:rPr>
              <a:t>ТЕЛО МОСТА ТРЕБА ДА У ПРАВОЈ ЛИНИЈИ ПОВЕЗУЈЕ СРЕДИНЕ НОСА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То је треће правило ста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Уколико тело моста одступа од праве линије која повезује средине носача, оно се током функционалних оптерећења у устима понаша као полуга која нагиње или ротира носаче. Интензитет ових непожељних ефеката је сразмеран дужини крака полуга. Дужина крака полуге је удаље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најизбоченије тачке те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моста од праве лин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која повезује нос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Untitled-27"/>
          <p:cNvPicPr/>
          <p:nvPr/>
        </p:nvPicPr>
        <p:blipFill>
          <a:blip r:embed="rId1"/>
          <a:stretch/>
        </p:blipFill>
        <p:spPr>
          <a:xfrm>
            <a:off x="5638680" y="4548240"/>
            <a:ext cx="350532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53452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Када се израђују бочни мостови, због анатомске конфигурације гребена у трансканиној регији, ово правило се без већих тешкоћа може испоштова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Насупрот томе, тело већине предњих мостова мора бити лучно, односно мора лежати изван линије која повезује средине носача. Наиме, оно мора испунити простор који су заузимали природни изгубљени зуби и тиме обезбедити физиолошко лежање и функцију горње усне, као и простор за језик, што је изузетно важно са естетског и фонетског аспекта. Лучно тело предњег моста на носаче делује као полу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Дужина крака полуге у сваком поједином случају зависи од анатомске конфигурације безубог алвеоларног гребена и броја и распореда недостајућих, односно преосталих зуба. Безуби алвеоларни гребен у пределу фронта може бити: а) изразито избочен, б) сре-дње избочен и ц) скоро рава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Најтежа је ситуација када је гребен изразито избочен а недостају сва четири секутића. Један заостали секутић знатно ублажава ефекте полуге</a:t>
            </a:r>
            <a:r>
              <a:rPr b="1" i="1" lang="sr-C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Untitled-28"/>
          <p:cNvPicPr/>
          <p:nvPr/>
        </p:nvPicPr>
        <p:blipFill>
          <a:blip r:embed="rId1"/>
          <a:stretch/>
        </p:blipFill>
        <p:spPr>
          <a:xfrm>
            <a:off x="5940360" y="2997360"/>
            <a:ext cx="297180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5715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Када се израђују лучни мостови, треба спречити непожељне ефекте полуге (нагињање носача у току функционалних оптерећења) бочним ојачавањем примарних носача, односно укључивањем секундарних носача. При томе важи правило да: "Дужина управног растојања између праве линије која спаја дисталне површине секундарних носача и праве линије која спаја средине примарних носача треба да буде иста или већа од дужине крака полуге који се секундарним носачима неутралиш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3" descr="Untitled-29"/>
          <p:cNvPicPr/>
          <p:nvPr/>
        </p:nvPicPr>
        <p:blipFill>
          <a:blip r:embed="rId1"/>
          <a:stretch/>
        </p:blipFill>
        <p:spPr>
          <a:xfrm>
            <a:off x="5867280" y="3962520"/>
            <a:ext cx="3276720" cy="2278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https://encrypted-tbn1.gstatic.com/images?q=tbn:ANd9GcQ26Tpb5zJoql3m7nRKaUUiTqdVlE-z6ReQno2DWsmtQoRD12P2bw"/>
          <p:cNvPicPr/>
          <p:nvPr/>
        </p:nvPicPr>
        <p:blipFill>
          <a:blip r:embed="rId1"/>
          <a:stretch/>
        </p:blipFill>
        <p:spPr>
          <a:xfrm>
            <a:off x="0" y="0"/>
            <a:ext cx="4788000" cy="3587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http://drramseyamin.typepad.com/.a/6a01053691a41c970c0115715af802970c-320wi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IMG_8604"/>
          <p:cNvPicPr/>
          <p:nvPr/>
        </p:nvPicPr>
        <p:blipFill>
          <a:blip r:embed="rId1"/>
          <a:stretch/>
        </p:blipFill>
        <p:spPr>
          <a:xfrm>
            <a:off x="0" y="0"/>
            <a:ext cx="4675320" cy="4191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http://drkezian.com/los-angeles-dentist-blog/wp-content/uploads/2013/12/Cosmetic-Dentistry.jpg"/>
          <p:cNvPicPr/>
          <p:nvPr/>
        </p:nvPicPr>
        <p:blipFill>
          <a:blip r:embed="rId2"/>
          <a:stretch/>
        </p:blipFill>
        <p:spPr>
          <a:xfrm>
            <a:off x="4356000" y="3043080"/>
            <a:ext cx="4788000" cy="381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ttp://cdn.whatclinic.com/dentists/croatia/rovinj/trident/thumbnails/33f6e6a7c6fb0ec7/bridge_2.jpg?&amp;float-y=0.25"/>
          <p:cNvPicPr/>
          <p:nvPr/>
        </p:nvPicPr>
        <p:blipFill>
          <a:blip r:embed="rId1"/>
          <a:stretch/>
        </p:blipFill>
        <p:spPr>
          <a:xfrm>
            <a:off x="539640" y="333360"/>
            <a:ext cx="4283280" cy="5975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https://encrypted-tbn1.gstatic.com/images?q=tbn:ANd9GcR8cjbh8ZXGC5EBMW5mR2oO4_-v9_r62Sxki79625wA1hVW6JEHqYKSyg"/>
          <p:cNvPicPr/>
          <p:nvPr/>
        </p:nvPicPr>
        <p:blipFill>
          <a:blip r:embed="rId2"/>
          <a:stretch/>
        </p:blipFill>
        <p:spPr>
          <a:xfrm>
            <a:off x="5364000" y="2276640"/>
            <a:ext cx="3456000" cy="2768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795920" cy="296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788000" cy="3009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0" y="3500280"/>
            <a:ext cx="5003640" cy="3030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4427640" y="4027320"/>
            <a:ext cx="4716360" cy="2830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ина тела моста 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в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у тела моста са математ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ком (аритметичком) прогресијом нпр. ако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ина моста износи 5мм код одр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не висине и распона нос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 овај мост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имати одр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ну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у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њем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ине на 10мм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а моста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се 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ти так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дупло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исина моста 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ав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у тела моста геометријском прогресијом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Матер</a:t>
            </a:r>
            <a:r>
              <a:rPr b="1" lang="sr-RS" sz="32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јал за израду оклузалне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е треба да поседује сл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на својства тврд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отпорности и абразивности к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гл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зуба и да обезб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је добру естет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http://stlouisdentalimplantsdentist.com/wp-content/uploads/2011/03/dental-implants-vs-bridges.jpg"/>
          <p:cNvPicPr/>
          <p:nvPr/>
        </p:nvPicPr>
        <p:blipFill>
          <a:blip r:embed="rId1"/>
          <a:stretch/>
        </p:blipFill>
        <p:spPr>
          <a:xfrm>
            <a:off x="684360" y="692280"/>
            <a:ext cx="792144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https://encrypted-tbn0.gstatic.com/images?q=tbn:ANd9GcT7wy4HRHR9cOYRKTTYha0fLPAydIOxHDIjH8jAC9GNsbFMdoc1"/>
          <p:cNvPicPr/>
          <p:nvPr/>
        </p:nvPicPr>
        <p:blipFill>
          <a:blip r:embed="rId1"/>
          <a:stretch/>
        </p:blipFill>
        <p:spPr>
          <a:xfrm>
            <a:off x="0" y="0"/>
            <a:ext cx="5545080" cy="411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ttp://www.hannover-dental.eu/cms/wp-content/uploads/telescopic_bridge.jpg"/>
          <p:cNvPicPr/>
          <p:nvPr/>
        </p:nvPicPr>
        <p:blipFill>
          <a:blip r:embed="rId2"/>
          <a:stretch/>
        </p:blipFill>
        <p:spPr>
          <a:xfrm>
            <a:off x="4751280" y="3921120"/>
            <a:ext cx="4392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Јаке силе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које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трају кратко изазивају реверзибилне промене на пародонцијум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Дуга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ко дејство слабијих сила, стимули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е ресор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цију кости, док кра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е дејство слабијих сила стимули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е апозицију кости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Поставља се питањ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а је боље да се примени: 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опте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е за кр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време или обрнуто мање опте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е за д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време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број аутора мисли да редуцирана пов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а треба да се ради само ако број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а тела моста је 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од 2, када је отпорност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а смањена (код фасетир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) или ако тело моста </a:t>
            </a:r>
            <a:r>
              <a:rPr b="1" lang="sr-RS" sz="2800" spc="-1" strike="noStrike">
                <a:solidFill>
                  <a:srgbClr val="ffff66"/>
                </a:solidFill>
                <a:latin typeface="Arial"/>
              </a:rPr>
              <a:t>нема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довољну виси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Ве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на мостова у доњој вилици захтева из естетских разлога фасетирану оклузалну повр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ну.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Акрилатне масе нису погодне као трајни матерјали за израду оклузалних повр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на јер немају потребну тврдо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у и отпорност на абразију.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Повољни су поку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аји са посебним металним обезбе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ва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ма оклузије (металним стопама)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са којима би се спре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ла абразија али нису постигнути о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екивани резултат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За оклузалну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у могу се користити :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племенити метали и синтетске масе са великом тврд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ом и отпорн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 на абразију као и смањеном конт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кцијом као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то је код нас  “ИСОСИТ”,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“ИВОКЛАР”, ”ДУРОГАЛ”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Много бољи матерјали од акрилата за оклузалну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у су керам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ке масе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Оне имају потребну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у и отпорност на абразију и ако се правилно прим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у потпуности задовољавај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384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2.</a:t>
            </a:r>
            <a:r>
              <a:rPr b="1" lang="sr-Latn-C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СРЕДЊИ ДЕО ТЕЛА МО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вај део одговара висини тела моста а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а моста и његова отпорност на притисак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акања зависе о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висине тела моста-х</a:t>
            </a:r>
            <a:r>
              <a:rPr b="1" lang="en-US" sz="28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рине оклузалне пов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е-2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д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е тела моста-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дебљ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не тела моста-</a:t>
            </a:r>
            <a:r>
              <a:rPr b="1" lang="el-G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матерјала од кога је мост изр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1:06:56Z</dcterms:created>
  <dc:creator>Zorica</dc:creator>
  <dc:description/>
  <dc:language>en-US</dc:language>
  <cp:lastModifiedBy>Office2010</cp:lastModifiedBy>
  <dcterms:modified xsi:type="dcterms:W3CDTF">2017-07-16T15:43:08Z</dcterms:modified>
  <cp:revision>46</cp:revision>
  <dc:subject/>
  <dc:title>Slide 1</dc:title>
</cp:coreProperties>
</file>